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C3F-D1B8-4E2F-9917-3E8E7A54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75C-9A12-4B25-B76F-288FEA0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89B-DFDF-447D-BDA6-5BFE2EDD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3B5-56D9-4174-9AEA-9A94AC07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285A-9099-4EBF-9B2A-0D44EB34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AF23-7AD3-4F9F-AE30-A92E8B2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774B-AA49-41B2-9139-DE109C2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B652-131D-4957-9B11-0CDA121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F459-7433-496D-90C2-F75AE11C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05E6-7770-4A8C-9087-896613AE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208C-1C50-47A4-84C6-D2FB967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7E6-F58A-4BB0-9E43-8777B2F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AA52-2575-4FA2-887C-91C49C3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0B09-6BEE-42BB-B767-338AA41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043-C593-4B06-AA04-F7D0982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4AEF-C4AA-4C36-BFE9-00257616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B0B-CF94-4D8B-81CF-503E3363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9ED-9728-4697-9DE1-1E2D63B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7AF-1DA6-4253-9FAD-9276FB95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607-4DE3-442A-A132-CAC95FD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B36-2F33-4E18-AE93-F8B8BB5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637-B3EB-4DE6-8A2E-3C6091E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AAB-940A-4FFD-8B21-C4C5A4B3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5DF-B561-4DCE-9E08-CF8D9EA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179-EA1E-47CF-9168-8D0D2B87DF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FFF-523A-47A7-A593-7C5A3CC70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203560"/>
            <a:ext cx="715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UŁAMKÓW O TYCH SAMYCH MIANOWNIK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27360" y="375444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ęcej figury zamalowała Ania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177624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ęcej pizzy zjadł Lolek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6039000"/>
            <a:ext cx="59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 odległość punktu jest większa, która leży dalej od zera; za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360" y="86364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) Bolek zjadł    , a  Lolek    tej samej pizzy. Który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z chłopców zjadł więcej pizz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9720" y="8301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732720" y="1360440"/>
            <a:ext cx="946080" cy="1393920"/>
            <a:chOff x="6732720" y="1360440"/>
            <a:chExt cx="946080" cy="13939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32720" y="1360440"/>
              <a:ext cx="946080" cy="1393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777720" y="2397240"/>
                  <a:ext cx="149040" cy="3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122720" y="8190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376280" y="288936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) Ania zamalowała    figury, Lenka    figury. Która z dziewczynek zamalowała większą część figu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8128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5772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1467000" y="5003640"/>
            <a:ext cx="5759280" cy="393840"/>
            <a:chOff x="1467000" y="5003640"/>
            <a:chExt cx="5759280" cy="393840"/>
          </a:xfrm>
        </p:grpSpPr>
        <p:sp>
          <p:nvSpPr>
            <p:cNvPr id="111" name=""/>
            <p:cNvSpPr/>
            <p:nvPr/>
          </p:nvSpPr>
          <p:spPr>
            <a:xfrm>
              <a:off x="1467000" y="5003640"/>
              <a:ext cx="57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) Na osi liczbowej zaznaczono punkty   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83236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47200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5136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3064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27800" y="4340160"/>
                <a:ext cx="393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73880" y="2090880"/>
                <a:ext cx="393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48480" y="6354720"/>
                <a:ext cx="533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2141640" y="3519360"/>
            <a:ext cx="1214280" cy="1452240"/>
            <a:chOff x="2141640" y="3519360"/>
            <a:chExt cx="1214280" cy="1452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673000" y="4628880"/>
                  <a:ext cx="128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141640" y="3519360"/>
              <a:ext cx="1214280" cy="113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642000" y="3564000"/>
            <a:ext cx="1170000" cy="1439280"/>
            <a:chOff x="6642000" y="3564000"/>
            <a:chExt cx="1170000" cy="1439280"/>
          </a:xfrm>
        </p:grpSpPr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7170120" y="4660920"/>
                  <a:ext cx="1274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642000" y="3564000"/>
              <a:ext cx="117000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050920" y="1554120"/>
            <a:ext cx="1306800" cy="1335240"/>
            <a:chOff x="2050920" y="1554120"/>
            <a:chExt cx="1306800" cy="13352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050920" y="1554120"/>
              <a:ext cx="1306800" cy="133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281320" y="1739880"/>
                  <a:ext cx="12996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9" name=""/>
          <p:cNvGraphicFramePr/>
          <p:nvPr/>
        </p:nvGraphicFramePr>
        <p:xfrm>
          <a:off x="1871640" y="5543640"/>
          <a:ext cx="5434200" cy="14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1640" y="5543640"/>
                    <a:ext cx="543420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67000" y="5627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275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7360" y="1306440"/>
            <a:ext cx="6165720" cy="4508280"/>
            <a:chOff x="1827360" y="1306440"/>
            <a:chExt cx="6165720" cy="4508280"/>
          </a:xfrm>
        </p:grpSpPr>
        <p:graphicFrame>
          <p:nvGraphicFramePr>
            <p:cNvPr id="137" name=""/>
            <p:cNvGraphicFramePr/>
            <p:nvPr/>
          </p:nvGraphicFramePr>
          <p:xfrm>
            <a:off x="1827360" y="1306440"/>
            <a:ext cx="616572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7360" y="1306440"/>
                      <a:ext cx="616572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141640" y="194760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Z dwóch ułamków </a:t>
              </a:r>
              <a:br>
                <a:rPr sz="4000"/>
              </a:b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tych samych mianownikach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jest ten, który m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 liczn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42:12Z</dcterms:modified>
  <cp:revision>49</cp:revision>
  <dc:subject/>
  <dc:title>Slajd 1</dc:title>
</cp:coreProperties>
</file>